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AADF-2D09-49CE-9180-6B7452BF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15F0-050E-4042-A3B2-20A88516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0F8-445A-4E59-8D44-DAC78EE5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06B-EF08-416D-BFF7-F245E469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90A0-87AB-484C-A69E-CE7B7F2B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6A00-78E3-4F2C-B145-157AA6C0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BA1D-CBA5-47DE-BA8B-B1DEBC47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618D-E245-495C-B31D-CDC8C064C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A359-2877-43F9-8A03-BA6249BD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14C6-9C38-4D3B-8D7F-B1360C25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CB52-6B43-4D10-8122-B21A9340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7B4-AB13-4A80-A64D-91880D4D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ED0A-2960-466A-BAC9-203223CC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82AC-2C96-465C-B7D3-1452E48F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EDC6-05BF-4F14-94AC-6E183D12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2336-2492-49B7-8C2D-5A2D786D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BAF8-2B63-4214-A755-4155A167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12DB-F463-493A-AF43-E1DAF588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66E-FB42-469A-A2AD-2C9B3642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81C-D07B-406E-9AF7-2962A826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509D-088E-4FB6-9762-9EDD6A4A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FBE-C7A7-4D11-9F93-E9ECFEF4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1D7-EAE8-4E15-A513-18016479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C92-A910-498D-8574-670EDF16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A444-3B81-4D38-BBAD-64FC26E1FF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A512-A828-4B9B-B6F4-948FE1ACDE8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873080"/>
            <a:ext cx="8534160" cy="1555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Object-Oriented Programming</a:t>
            </a:r>
            <a:br>
              <a:rPr sz="4400"/>
            </a:br>
            <a:r>
              <a:rPr b="1" lang="en-US" sz="4400" spc="-1" strike="noStrike">
                <a:solidFill>
                  <a:srgbClr val="666699"/>
                </a:solidFill>
                <a:latin typeface="Arial"/>
              </a:rPr>
              <a:t>with C#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228600"/>
            <a:ext cx="883944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you have created a custom class by name IDGenerato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es a static method by name GetNewEmpID(), which generates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w employee 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we gather the correct set of startup parameters, we can forwar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creation request to the alternate three-argument constru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did not forward the call, we would need to add redundant co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each construc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3489480"/>
            <a:ext cx="868680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urrPay automatically set to 0.0F via default val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string full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fullName = full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empID = IDGenerator.GetNewEmpID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770B-DD58-4905-A390-5370BB8D0F7C}" type="slidenum">
              <a:t>10</a:t>
            </a:fld>
          </a:p>
        </p:txBody>
      </p:sp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1666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fying Type Visibility: Public and Internal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890640"/>
            <a:ext cx="87631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member defined by a class must establish its level of visibilit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ing the "public", "private", "protected", "internal", or "protect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nal" keywo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method visibilit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used to constrain which members can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ccessed from a given object, and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type visibilit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used to establis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ich parts of the system can create the types themsel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non-nested C# type can be marked by one of two visibilit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keywords: "public" or "internal“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types may be created by any other objects within the sa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embly as well as by other external assembl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ABF5-D062-4E85-BFA8-F227C9F5C616}" type="slidenum">
              <a:t>11</a:t>
            </a:fld>
          </a:p>
        </p:txBody>
      </p:sp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76320"/>
            <a:ext cx="8686800" cy="1831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Hello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ny number of methods with any number of parameter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Default or custom constructors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f this is the program's entry point, a static Main() metho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1968480"/>
            <a:ext cx="88394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efault, if you do not explicitly mark the visibility level of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, it is implicitly set to "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ntern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l classes can only be created by types living within the sa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embly, and are not accessible from outside the assembly's bou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3581280"/>
            <a:ext cx="8686800" cy="1435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Internal classes can only be used by oth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in the same assemb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HelloClassHelp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029200"/>
            <a:ext cx="8686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ype is simply a generic term used to refer to classes, structure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numerations, interfaces, and deleg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 are not the only UDT that can accept a visibility attribu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06F-B26E-441D-9781-D4AD569538E4}" type="slidenum">
              <a:t>12</a:t>
            </a:fld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8600" y="228600"/>
            <a:ext cx="891540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namespace HelloTyp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// Cannot be used outside this assembly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nternal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uct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ivate int my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int GetMyX() { return myX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X(int x) { myX = x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// Cannot be used outside this assemb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enum Let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 a = 0, b = 1, c = 2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// May be used outside this assemb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class Hello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X theX = new X(26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{0}\n{1}", theX.GetMyX(), Letters.b.ToString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976-C56E-4273-8411-30FF0C4C740F}" type="slidenum">
              <a:t>13</a:t>
            </a:fld>
          </a:p>
        </p:txBody>
      </p:sp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irst Pillar: C#’s Encapsulation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838080"/>
            <a:ext cx="868680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ncept of encapsulation means that an object's internal dat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hould not be directly accessible from an object in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n object user wishes to alter the state of an object, this can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one indirectly using accessor (get) and mutator (set)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#, encapsulation is enforced at the syntactic level using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"public", "private", "protected", and "protected internal" keywo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llustrate, assume you have created the following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i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4419720"/>
            <a:ext cx="830556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 class with a single fie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Bo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 numberOfPag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4F9B-EA44-45F9-9B69-706597831B2C}" type="slidenum">
              <a:t>14</a:t>
            </a:fld>
          </a:p>
        </p:txBody>
      </p:sp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228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blem with public field data is that the items have no abilit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to "understand" if the current value to which they are assigned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valid with regard to the current business rules of the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523880"/>
            <a:ext cx="853452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k miniNovel = new Book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NOvel.numberOfPages = 30000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3352680"/>
            <a:ext cx="8686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you do not overflow the boundaries of an integer dat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, it should be clear that a mini-novel with a page count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30,000,000 pages is a bit unreason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fields do not provide a way to enforce data validation r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apsulation provides a way to preserve the integrity of state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E1C-299A-4F37-8943-0D847C638CFE}" type="slidenum">
              <a:t>15</a:t>
            </a:fld>
          </a:p>
        </p:txBody>
      </p:sp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228600"/>
            <a:ext cx="86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ead of defining public fields,  we should use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ivate data fiel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ich are indirectly manipulated by the caller using one of tw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main techniqu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efine a pair of traditional accessor and mutator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Define a named proper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ever technique we choose, the point is that a well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encapsulated class should hide its raw data and the details of how 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operates from the eyes of the outside worl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often term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lack box programm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27B6-5E22-4F88-9BC0-909160E88A58}" type="slidenum">
              <a:t>16</a:t>
            </a:fld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280" y="152280"/>
            <a:ext cx="8763120" cy="947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forcing Encapsulation Using Traditional Accessors and Mut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0666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want the outside world to interact with your private data field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is can be done defining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ccesso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get method) an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utato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se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). 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286000"/>
            <a:ext cx="8686800" cy="4208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raditional accessor and mutator for a point of private d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string full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Access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ring GetFullName(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fullName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Muta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SetFullName(string 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Name = 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EB5-1064-4F3B-80FA-B3BF340DA962}" type="slidenum">
              <a:t>17</a:t>
            </a:fld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1522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alling logic is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685800"/>
            <a:ext cx="876312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ccessor/mutator u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p = new Employe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Full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"Fred Flintston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Employee is named: {0}", p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tFull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Error below! Can't access private data from an object insta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p.full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C02B-5835-4DC3-B94A-BB240BA6F6E7}" type="slidenum">
              <a:t>18</a:t>
            </a:fld>
          </a:p>
        </p:txBody>
      </p:sp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Form of Encapsulation: Class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685800"/>
            <a:ext cx="8763120" cy="29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trast to traditional accessor and mutator methods, .NE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anguages prefer to enforce encapsulation us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opert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ead of using two different methods to get and set the data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the user is able to call what appears to be a single named fie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llustrate, assume we have provided a property named EmpI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t wraps the internal empID member variable of the Employe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. The calling logic would look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3733920"/>
            <a:ext cx="8610480" cy="25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oyee p = new Employe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Set the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I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8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Get the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Person ID is: {0} ", p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I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DAB-0896-43AD-915E-A7C59D30427A}" type="slidenum">
              <a:t>19</a:t>
            </a:fld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8100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al Definition of the C#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9144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858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lass is nothing more than a user-defined type (UDT) that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osed of field data (sometimes term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mber variab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unctions (often call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thod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O) that act on the dat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6000" y="1930320"/>
            <a:ext cx="8839080" cy="4759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The initial Employee class definitio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namespace Employe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Field data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ivate string fullName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ivate int empI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rivate float currP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Constructors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ublic Employee()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ublic Employee(string fullName, int empID, float currPay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s.fullName = fullName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s.empID = empI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s.currPay = currP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1D76-79B3-42EA-B6E6-F0E5BF88A040}" type="slidenum">
              <a:t>2</a:t>
            </a:fld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152280"/>
            <a:ext cx="8458200" cy="393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ustom property for the EmpID data p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int empI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Property for the empID data p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int Emp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 return empID;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ID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03848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# "value" keyword represents the right-hand side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ignment. "value" is also an object in C#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# property is composed using a get block (accessor) and se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lock (mutator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5791320"/>
            <a:ext cx="7315200" cy="1008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81 is a System.Int32, so "value" is a System.Int3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p = new Employe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.EmpI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8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29BC-CF79-4436-8D0F-176B50CDFA79}" type="slidenum">
              <a:t>20</a:t>
            </a:fld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152280"/>
            <a:ext cx="8534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assume you have created an Employee object named jo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his birthday, you wish to increment the age by o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traditional accessor and mutator methods, you would ne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write code such as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2286000"/>
            <a:ext cx="8458200" cy="82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joe = new Employe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t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o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) + 1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34290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encapsulate empAge using property syntax, simply wri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4191120"/>
            <a:ext cx="8458200" cy="82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joe = new Employe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F90-8C2E-4C5C-8B35-E384AB9E164A}" type="slidenum">
              <a:t>21</a:t>
            </a:fld>
          </a:p>
        </p:txBody>
      </p:sp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al Representation of C#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2280" y="609480"/>
            <a:ext cx="876312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y programmers tend to design traditional accessor and mutat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 using “get_” and “set_” prefix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important to understand that , a C# property is internal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presented using these same prefix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2422440"/>
            <a:ext cx="8610480" cy="43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Assume this member is assigned by the class construct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ivate string empSS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SS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get { return empSSN; } // Maps to get_SSN(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et { empSSN = value;} // Maps to set_SSN(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ERROR! Already defined under the hood by SSN property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get_SSN()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{ return empSSN;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set_SSN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string val) { empSSN = val;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088-810A-447E-998E-D62EFAC1776A}" type="slidenum">
              <a:t>22</a:t>
            </a:fld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-Only and Write-Only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838080"/>
            <a:ext cx="87631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building custom properties, we may wish to configur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ad-only proper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o so, simply build a property without a corresponding set block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Likewise, if you wish to have a write-only property, omit the ge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loc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283-60C8-41E2-AA8E-2CC6FDD603FD}" type="slidenum">
              <a:t>23</a:t>
            </a:fld>
          </a:p>
        </p:txBody>
      </p:sp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228600"/>
            <a:ext cx="8610480" cy="6192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string empSS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string FullName, int empID, float currPay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ing ss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fullName = Full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empID = empI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currPay = currPa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.empSSN = ss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Now as a read-only proper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ring SS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empSSN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D0B-B965-4130-9D37-F854F62E9B70}" type="slidenum">
              <a:t>24</a:t>
            </a:fld>
          </a:p>
        </p:txBody>
      </p:sp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Static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9144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also support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atic propert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Recall  that static members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ccessed at the class level, not from an instance (object) of that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may define a static property for a Employee typ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2803680"/>
            <a:ext cx="883944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Static properties must operate on static data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company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{ return companyName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{ companyName = value;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FCB-89FF-4D10-8FC6-FA8975CA7FD6}" type="slidenum">
              <a:t>25</a:t>
            </a:fld>
          </a:p>
        </p:txBody>
      </p:sp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" y="1522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Static Constru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838080"/>
            <a:ext cx="88394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supports the use of static constructors that serve no other purpo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n to assign initial values to static da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ntactically, static constructors are odd as that the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nno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isibility modifi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2743200"/>
            <a:ext cx="861048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tatic constructors are used to initialize static 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company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companyName = "Intertech, Inc"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AF9-A0F5-46EF-97E1-3EBDA425A5BE}" type="slidenum">
              <a:t>26</a:t>
            </a:fld>
          </a:p>
        </p:txBody>
      </p:sp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ant to invoke the Employee.Company property, there is n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ed to assign an initial value within the Main() method, as the stat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structor does so automatical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523880"/>
            <a:ext cx="876312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utomatically set to "Intertech, Inc" via the static construc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se folks work at {0} "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loyee.Compa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BE4-1291-472D-B7C3-84CF5DF4F807}" type="slidenum">
              <a:t>27</a:t>
            </a:fld>
          </a:p>
        </p:txBody>
      </p:sp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seudo-Encapsulation: Creating Read-Only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838080"/>
            <a:ext cx="876312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ly related to read-only properties is the notion of read-on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iel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-only fields offer data preservation via the "readonly" keyw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way of a simple example, assume you have a read-only fiel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amed SSNField that offers an alternative manner for the caller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btain an employee's SS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00C-7DAD-46CA-B42C-4EC4825C44AE}" type="slidenum">
              <a:t>28</a:t>
            </a:fld>
          </a:p>
        </p:txBody>
      </p:sp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228600"/>
            <a:ext cx="868680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Read-only field (set in the cto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on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SSNFiel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string FullName, int empID, float currPay, string ss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fullName = Full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empID = empI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currPay = currPa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empSSN = ss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ssign read-only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NField = ss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042-6189-451A-8EA8-F92B946EBF8A}" type="slidenum">
              <a:t>29</a:t>
            </a:fld>
          </a:p>
        </p:txBody>
      </p:sp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480" y="76320"/>
            <a:ext cx="8991360" cy="5934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void GiveBonus(float amoun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 currPay += amount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Show current state of this objec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void DisplayStats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Name: {0} ", fullNam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Pay: {0} ", currPay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ID: {0} ", emp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ployee e = new Employee("Joe", 80, 3000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Employee e= new Employee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ployee e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2 = new Employee("Beth", 81, 5000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DisplayStats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2.DisplayStats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8269-A1F9-4BCE-896B-C41CB7125DF5}" type="slidenum">
              <a:t>3</a:t>
            </a:fld>
          </a:p>
        </p:txBody>
      </p:sp>
    </p:spTree>
  </p:cSld>
  <p:transition spd="med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320" y="15228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c Read-Only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838080"/>
            <a:ext cx="868680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read-only fields are also permissib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"readonly" seems to be a close cousin  to the "const" keywor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fference is that the value assigned to "const" must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resolved at compile time, and therefore cannot be assigned a new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type insta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alue of read-only static fields, may be computed a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unti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therefore may be assigned type instances as well as simply dat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s (int, float, string, etc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4C1-15CA-4155-A700-F39B49811A9C}" type="slidenum">
              <a:t>30</a:t>
            </a:fld>
          </a:p>
        </p:txBody>
      </p:sp>
    </p:spTree>
  </p:cSld>
  <p:transition spd="med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280" y="152280"/>
            <a:ext cx="8686800" cy="6497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e Tire class has a number of read-only fiel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T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Given that the state of the Tire type is determined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runtime, w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e the 'const' keyword her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ERROR: public const Tire GoodStone = new Tire(9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In contrast, the 'readonly' keyword can be assig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values which are computed at runti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on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re GoodStone = new Tire(9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on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re FireYear = new Tire(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on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re ReadyLyne= new Tire(43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on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re Blimpy = new Tire(83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int manufactureI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Make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{ return manufactureID; }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Tire (int 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manufactureID = ID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94C-C241-46D9-AD69-EEADB670804A}" type="slidenum">
              <a:t>31</a:t>
            </a:fld>
          </a:p>
        </p:txBody>
      </p:sp>
    </p:spTree>
  </p:cSld>
  <p:transition spd="med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152280"/>
            <a:ext cx="868680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Make use of a dynamically created read-only fie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What sort of tires do I h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Tire tireType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re.Blimpy; // Returns a new Ti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CarA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c = new Car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Prints out "Manufacture ID of tires: 83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Manufacture ID of tires: {0} "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tireType.MakeID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BFD-16B0-4609-A1C2-ACB646853C7F}" type="slidenum">
              <a:t>32</a:t>
            </a:fld>
          </a:p>
        </p:txBody>
      </p:sp>
    </p:spTree>
  </p:cSld>
  <p:transition spd="med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6320" y="114480"/>
            <a:ext cx="906768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econd Pillar: C#’s Inheritance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38080"/>
            <a:ext cx="868680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heritance is the aspect of OOP that facilitates code re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heritance comes in two flavors: classical inheritance (the “is-a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lationship) and the containment/delegation model (the “has-a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lationship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asic idea behind classical inheritance is that new classes ma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leverage the functionality of other cl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76520" y="3657600"/>
            <a:ext cx="5333760" cy="261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5E97-E17C-40F2-8719-84CA88E23D5C}" type="slidenum">
              <a:t>33</a:t>
            </a:fld>
          </a:p>
        </p:txBody>
      </p:sp>
    </p:spTree>
  </p:cSld>
  <p:transition spd="med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152280"/>
            <a:ext cx="86868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ee that a SalesPerson “is-a” Employee (as is a Manag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classical inheritance model, base classes are used to def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general characteristics that are common to all descend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classes extend this general functionality while adding mo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pecific behavi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#, extending a class is accomplished using the colon operat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:) on the class defin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0AC-E69A-4A4D-8520-2760CF09540C}" type="slidenum">
              <a:t>34</a:t>
            </a:fld>
          </a:p>
        </p:txBody>
      </p:sp>
    </p:spTree>
  </p:cSld>
  <p:transition spd="med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76320"/>
            <a:ext cx="868680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Add two new subclasses to the Employees namesp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namespace Employe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lass Manager : Employ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Managers need to know their number of stock op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ivate ulong numberOfOption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ulong NumbOp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et { return numberOfOptions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t { numberOfOptions = value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lass SalesPerson : Employ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Salespeople need to know their number of s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ivate int numberOfSal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int NumbS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et { return numberOfSales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t { numberOfSales = value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7D6-D1C4-45CF-99ED-D875235D5FCB}" type="slidenum">
              <a:t>35</a:t>
            </a:fld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we have established an “is-a” relationship, SalesPerson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nager have automatically inherited all public (and protected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bers of the Employee base class. To illustr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1698480"/>
            <a:ext cx="8839080" cy="4483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Create a subclass and access base class function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Make a salespers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alesPerson stan = new SalesPerson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These members are inherited from the Employee base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an.ID = 10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an.Name = "Stan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This is defined by the SalesPerson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an.NumbSales = 4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932F-6736-4FEA-9DA5-0C767A4F1205}" type="slidenum">
              <a:t>36</a:t>
            </a:fld>
          </a:p>
        </p:txBody>
      </p:sp>
    </p:spTree>
  </p:cSld>
  <p:transition spd="med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8100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ling Base Class Creation with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7621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ly, SalesPerson and Manager can only be created using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ault constructor. Now assume you have added a new six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rgument constructor to the Manager type, which is invoked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2451240"/>
            <a:ext cx="8610480" cy="1739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Assume we now have the following constr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(name, age, ID, pay, SSN, number of stock option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anager chucky = new Manager("Chucky", 35, 92, 100000, "333-23-2322", 900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4390920"/>
            <a:ext cx="86868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of these parameters should be stored in the member variabl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ed by the Employee base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o so, we could implement this new constructor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2C2-391D-4B57-8191-8D1303B0FAFD}" type="slidenum">
              <a:t>37</a:t>
            </a:fld>
          </a:p>
        </p:txBody>
      </p:sp>
    </p:spTree>
  </p:cSld>
  <p:transition spd="med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280" y="152280"/>
            <a:ext cx="876312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Manager(string fullName, int age, int empID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loat currPay, string ss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long numbOfOp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umberOfOptions = numbOfOp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D = empI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ge = ag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ame = full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ocialSecurityNumber = ss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ay = currPa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EA53-72AD-4605-8EE3-8F43567D4277}" type="slidenum">
              <a:t>38</a:t>
            </a:fld>
          </a:p>
        </p:txBody>
      </p:sp>
    </p:spTree>
  </p:cSld>
  <p:transition spd="med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228600"/>
            <a:ext cx="86104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easily create a derived class, we will implement our sub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structors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xplicitl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 an appropriate custom base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structor, rather than the defa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is way, you are able to reduce the number of calls to inherit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itialization members (which saves tim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2362320"/>
            <a:ext cx="883944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This time, use the C# "base" keyword to call a cus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onstructor on the base cla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Manager(string fullName, int age, int empID, float currPay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ss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long numbOfOpts)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: base(fullName, age, empID, currPay, ss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umberOfOptions = numbOfOpt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8006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have explicitly called the five-argument constructor defined b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mployee and saved unnecessary calls during the creation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hild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0F22-478F-4A27-8D99-8CFCCBBAFCEA}" type="slidenum">
              <a:t>39</a:t>
            </a:fld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1522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Method Overlo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83808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allows a type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verloa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rious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class has a set of identically named members that differ b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number (or type) of parameters, the member is said to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verload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666880"/>
            <a:ext cx="8686800" cy="2838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Overloaded constructo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){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string fullName, int empID, float currP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7299-D1FA-41B0-943F-160CC450A512}" type="slidenum">
              <a:t>4</a:t>
            </a:fld>
          </a:p>
        </p:txBody>
      </p:sp>
    </p:spTree>
  </p:cSld>
  <p:transition spd="med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304920"/>
            <a:ext cx="868680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As a general rule, all subclasses should explicitly call an appropri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base class construc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alesPerson(string fullName, int age, int empID,float currPay, string ssn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numbOfSal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base(fullName, age, empID, currPay, ss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umberOfSales = numbOfSale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0A9-A042-4142-BAD0-3C1B55B27DCB}" type="slidenum">
              <a:t>40</a:t>
            </a:fld>
          </a:p>
        </p:txBody>
      </p:sp>
    </p:spTree>
  </p:cSld>
  <p:transition spd="med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8100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ing Family Secrets: The protected Keyw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584280"/>
            <a:ext cx="8686800" cy="33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blic items are directly accessible from anywhere, while priva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tems cannot be accessed from any object beyond the class that h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ed i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 provides an additional level of accessibility: prote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base class defines protected data or protected members, it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ble to create a set of items that can be accessed directly by an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scend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581280"/>
            <a:ext cx="8686800" cy="3111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Protected state d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Child classes can directly access this information. Object users canno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string full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int empI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float currP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otected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string empSS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rotected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empAg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C26-E2DE-4070-A8D1-57809E192FD2}" type="slidenum">
              <a:t>41</a:t>
            </a:fld>
          </a:p>
        </p:txBody>
      </p:sp>
    </p:spTree>
  </p:cSld>
  <p:transition spd="med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8600" y="152280"/>
            <a:ext cx="86868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enefit of defining protected members in a base class is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rived types no longer have to access the data using publ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 o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awback is that when a derived type has direct acce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its parent’s internal data, it is possible to bypass existing busine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ules found within public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far as the object user is concerned, Protected data is regarded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rivate. Therefore, the following is  illeg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4346640"/>
            <a:ext cx="845820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Error! Can't access protected data from object inst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emp = new Employe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.empSSN = "111-11-1111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781-7D3F-4D44-A36C-A9F5EE5B6705}" type="slidenum">
              <a:t>42</a:t>
            </a:fld>
          </a:p>
        </p:txBody>
      </p:sp>
    </p:spTree>
  </p:cSld>
  <p:transition spd="med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8100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ing Inheritance: Sealed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4496040" cy="3135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28600" y="3962520"/>
            <a:ext cx="8839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TSalesPerson is a class representing a part-time salespers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we wish to ensure that no other developer is able to subclass from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PTSalesPers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prevent others from extending a class, make use of the C# sealed  keywor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80B-A92D-43A6-83F3-73599F8B18A1}" type="slidenum">
              <a:t>43</a:t>
            </a:fld>
          </a:p>
        </p:txBody>
      </p:sp>
    </p:spTree>
  </p:cSld>
  <p:transition spd="med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52280" y="152280"/>
            <a:ext cx="876312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Ensure that PTSalesPerson cannot act as a base class to oth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sealed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class PTSalesPerson : SalesPe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PTSalesPerson(string fullName, int age, int empID, float currPa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ssn, int numbOfSa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: base(fullName, age, empID, currPay, ssn, numbOfSa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Interesting constructor logic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Other interesting member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5257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aled keyword is most useful when creating stand-alone utilit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l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3886200"/>
            <a:ext cx="861048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Compiler erro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ReallyPTSalesPerson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TSalesPer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523-B275-41AC-9446-205A47EF2129}" type="slidenum">
              <a:t>44</a:t>
            </a:fld>
          </a:p>
        </p:txBody>
      </p:sp>
    </p:spTree>
  </p:cSld>
  <p:transition spd="med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9036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gramming for Containment/Dele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762120"/>
            <a:ext cx="8686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examine the “has-a” relationship (also known as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ainment/deleg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you have created a new class that models an employe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enefits pack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666880"/>
            <a:ext cx="876276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// This type will function as a contained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lass BenefitPack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// Assume we have other members that re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vings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 plans, dental / health benefits and so 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double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ComputePayDeductio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return 125.0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41AF-BF9E-4A3A-B94E-0C600BDE9EE1}" type="slidenum">
              <a:t>45</a:t>
            </a:fld>
          </a:p>
        </p:txBody>
      </p:sp>
    </p:spTree>
  </p:cSld>
  <p:transition spd="med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28600" y="228600"/>
            <a:ext cx="861048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ould be rather odd to establish an “is-a” relationship betwe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BenefitPackage class and the employee ty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would like to express that each employee “has-a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enefitPackag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o so, you can update the Employee class definition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2666880"/>
            <a:ext cx="868680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Employees now have benef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Contain a BenefitPackag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ed BenefitPackage empBenefits = new BenefitPackag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51814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this point, you have successfully contained another obje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9D7-B4DE-4EC4-8810-D13A3651DF03}" type="slidenum">
              <a:t>46</a:t>
            </a:fld>
          </a:p>
        </p:txBody>
      </p:sp>
    </p:spTree>
  </p:cSld>
  <p:transition spd="med"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22860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expose the functionality of the contained object to the outsi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world requir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leg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egation is simply the act of adding members to the contain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 that make use of the contained object’s functional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057400"/>
            <a:ext cx="853416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ed BenefitPackage empBenefits = new BenefitPackag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Expose certain benefit behaviors of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double GetBenefitCost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empBenefits.ComputePayDeduction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Expose object through a custom proper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BenefitPackage Benef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{ return empBenefits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{ empBenefits = value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37B1-3765-48F8-BF86-A1F569205B90}" type="slidenum">
              <a:t>47</a:t>
            </a:fld>
          </a:p>
        </p:txBody>
      </p:sp>
    </p:spTree>
  </p:cSld>
  <p:transition spd="med"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4920" y="304920"/>
            <a:ext cx="853416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 me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 = new Manager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mel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ComputePayDeduction(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92FD-7317-4194-BF78-70FA05C6E3BE}" type="slidenum">
              <a:t>48</a:t>
            </a:fld>
          </a:p>
        </p:txBody>
      </p:sp>
    </p:spTree>
  </p:cSld>
  <p:transition spd="med"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8600" y="8100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sted Type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762120"/>
            <a:ext cx="86104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#, it is possible to define a type (enum, class, interface, struc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or delegate) directly within the scope of a class or 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done so, the nested (or “inner”) type is considered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emb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nesting (or “outer”) class, and can be manipulated like an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ther member (fields, properties, methods, events, etc.) dur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un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400560"/>
            <a:ext cx="8686800" cy="3141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c class OuterCl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members of the outer cl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blic class PublicInnerClas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// members of the inner cla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class PrivateInnerClass {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0528-3281-4B28-9242-CC3AE7364F83}" type="slidenum">
              <a:t>49</a:t>
            </a:fld>
          </a:p>
        </p:txBody>
      </p:sp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280" y="152280"/>
            <a:ext cx="876312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Triang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e overloaded Draw() meth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raw(int x, int y, int height, int width) 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raw(float x, float y, float height, float width) 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raw(Point upperLeft, Point bottomRight) 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raw(Rect r) 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2895480"/>
            <a:ext cx="88394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C# did not support method overloading, we would be forced to create fou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uniquely named me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733920"/>
            <a:ext cx="876312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Triang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rawWithInts(int x, int y, int height, int width) 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rawWIthFloats(float x, float y, float height, float width) 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rawWithPoints(Point upperLeft, Point bottomRight) 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rawWithRect(Rect r) 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6F91-23AB-42BB-BB4D-AC23CC7EF254}" type="slidenum">
              <a:t>5</a:t>
            </a:fld>
          </a:p>
        </p:txBody>
      </p:sp>
    </p:spTree>
  </p:cSld>
  <p:transition spd="med"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304920"/>
            <a:ext cx="8534160" cy="38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llowing points ponders over why nesting is required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sting types is similar to composition (“has-a”), except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you have complete control over the access level of the inn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yp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ead of a contain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use a nested type is a member of the containing class, 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n access private members of the containing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tentimes, a nested type is only useful as helper for the out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, and is not intended for use by the outside wor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BD6-705F-456F-B3F5-E78DB0A841DC}" type="slidenum">
              <a:t>50</a:t>
            </a:fld>
          </a:p>
        </p:txBody>
      </p:sp>
    </p:spTree>
  </p:cSld>
  <p:transition spd="med"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2280" y="228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wish to make use of a nested type from outside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taining type, you must qualify it by the scope of the nesting ty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1447920"/>
            <a:ext cx="8610480" cy="33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Create and use the public inner class. O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Class.PublicInnerClass inn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 = new OuterClass.PublicInnerClass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Compiler Error! Cannot access the private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Class.PrivateInnerClass inner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2 = new OuterClass.PrivateInnerClass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A37-CB49-437C-93B1-CE377F2E38D0}" type="slidenum">
              <a:t>51</a:t>
            </a:fld>
          </a:p>
        </p:txBody>
      </p:sp>
    </p:spTree>
  </p:cSld>
  <p:transition spd="med"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320" y="15228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make use of this concept within our employees example, assu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 have now nested the BenefitPackage directly withi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mployee class 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1523880"/>
            <a:ext cx="861048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Nesting the BenefitPack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BenefitPack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double ComputePayDedu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return 125.0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47242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sting process can be as “deep” as you requi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7839-AE00-4E6B-ABD2-858E3B4D5D53}" type="slidenum">
              <a:t>52</a:t>
            </a:fld>
          </a:p>
        </p:txBody>
      </p:sp>
    </p:spTree>
  </p:cSld>
  <p:transition spd="med"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920" y="76320"/>
            <a:ext cx="8534160" cy="43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Employee nests BenefitPack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BenefitPackage nests BenefitPackageLev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BenefitPack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double ComputePayDeductio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return 125.0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nu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nefitPackage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, Gold, Platin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4495680"/>
            <a:ext cx="853416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Creating a BenefitPackageLevel vari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.BenefitPackage.BenefitPackageLevel myBenefitLevel 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.BenefitPackage.BenefitPackageLevel.Platinu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FF4-0AD7-4C19-9664-40CDA7333E8A}" type="slidenum">
              <a:t>53</a:t>
            </a:fld>
          </a:p>
        </p:txBody>
      </p:sp>
    </p:spTree>
  </p:cSld>
  <p:transition spd="med"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8100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hird Pillar: C#'s Polymorphic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762120"/>
            <a:ext cx="8763120" cy="25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Employee defines a new method that gives a bonus to a given employe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GiveBonus(float amou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Pay += amoun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3505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use this method has been defined as public, you can now gi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onuses to sales-persons and manag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4538520"/>
            <a:ext cx="8763120" cy="2014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Give each child class a bon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r chucky = new Manager("Chucky", 92, 100000, "333-23-2322", 900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ucky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veBon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0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ucky.DisplayStats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esPerson fran = new SalesPerson("Fran", 93, 3000, "932-32-3232", 3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n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veBon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0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n.DisplayStats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B70-9F7B-49B4-AD7A-97087C76F501}" type="slidenum">
              <a:t>54</a:t>
            </a:fld>
          </a:p>
        </p:txBody>
      </p:sp>
    </p:spTree>
  </p:cSld>
  <p:transition spd="med"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8600" y="65160"/>
            <a:ext cx="8763120" cy="33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blem with the current design is that the inherit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GiveBonus() method operates identically for each sub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onus of a salesperson or part-time salesperson should take in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ccount the number of s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alter our current design, we need to make use of the C#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"virtual“ and "override" keywor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base class wishes to define a method that may be overridd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y a subclass, it must specify the method as virtu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4920" y="3641760"/>
            <a:ext cx="861048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GiveBonus() has a default implementation, how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hild classes are free to override this behav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oid GiveBonus(float am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Pay += amount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FF77-548A-4D1D-8644-5582E3831903}" type="slidenum">
              <a:t>55</a:t>
            </a:fld>
          </a:p>
        </p:txBody>
      </p:sp>
    </p:spTree>
  </p:cSld>
  <p:transition spd="med"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 subclass wishes to redefine a virtual method, it is required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implement the method using the "override" keyword. For examp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143000"/>
            <a:ext cx="868680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SalesPerson 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rid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GiveBonus(float am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salesBonus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numberOfSales &gt;= 0 &amp;&amp; numberOfSales &lt;= 1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Bonus = 1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if(numberOfSales &gt;= 101 &amp;&amp; numberOfSales &lt;= 2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Bonus = 15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Bonus = 20; // Anything greater than 2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GiveBonus (amount * salesBonu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5C3-F555-4241-8A6E-B820FE49EDD8}" type="slidenum">
              <a:t>56</a:t>
            </a:fld>
          </a:p>
        </p:txBody>
      </p:sp>
    </p:spTree>
  </p:cSld>
  <p:transition spd="med"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2280" y="76320"/>
            <a:ext cx="876312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Manager 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Random r = new Random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Manager get some number or new stock options, in addition to raw cas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verrid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GiveBonus(float am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Increase sal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.GiveBonus(amoun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And give some new stock option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OfOptions +=(ulong)r.Next(5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7840" y="4233960"/>
            <a:ext cx="8661240" cy="2441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A better bonus system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 chucky = new Manager("Chucky", 92, 100000, "333-23-2322", 90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ucky.GiveBonus(3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ucky.DisplayStats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Person fran = new SalesPerson("Fran", 93, 3000, "932-32-3232", 31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an.GiveBonus(2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.DisplayStats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C3A-C3B1-418E-BE28-71861677DC0B}" type="slidenum">
              <a:t>57</a:t>
            </a:fld>
          </a:p>
        </p:txBody>
      </p:sp>
    </p:spTree>
  </p:cSld>
  <p:transition spd="med"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04920" y="152280"/>
            <a:ext cx="86104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siting the sealed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762120"/>
            <a:ext cx="86868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aled keyword can also be applied to type members to prev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virtual members from being further overridden by derived ty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can be helpful when you do not wish to seal an entire clas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just a few select methods or proper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2666880"/>
            <a:ext cx="838224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class can be extend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however, GiveBonus() cannot be overriden by derived clas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PTSalesPerson 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esPer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ride seal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GiveBonus(float am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4697-B947-4534-81EC-25F625FC125A}" type="slidenum">
              <a:t>58</a:t>
            </a:fld>
          </a:p>
        </p:txBody>
      </p:sp>
    </p:spTree>
  </p:cSld>
  <p:transition spd="med"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152280"/>
            <a:ext cx="8610480" cy="6464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example for overrid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namespace overrid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ass 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virtual void Displa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ystem.Console.WriteLine("BC::Display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ass DC : 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override void Display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ystem.Console.WriteLine("DC::Display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A14-4413-46BE-8BD7-A6E33C9FC331}" type="slidenum">
              <a:t>59</a:t>
            </a:fld>
          </a:p>
        </p:txBody>
      </p:sp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member that when we are overloading a member,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turn type alone is not unique enough. The following is  illeg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143000"/>
            <a:ext cx="8610480" cy="3020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Triang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Error! Cannot overload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based solely on return valu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float GetX() {..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 GetX() {..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D14-12E8-43EE-8C07-20FBEC4994EB}" type="slidenum">
              <a:t>6</a:t>
            </a:fld>
          </a:p>
        </p:txBody>
      </p:sp>
    </p:spTree>
  </p:cSld>
  <p:transition spd="med"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28600" y="228600"/>
            <a:ext cx="861048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C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 = new BC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.Display();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 = new DC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.Display();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4495680"/>
            <a:ext cx="8534160" cy="1015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::Dis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::Displ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9D9-A0E0-498A-8BFF-DF590027E366}" type="slidenum">
              <a:t>60</a:t>
            </a:fld>
          </a:p>
        </p:txBody>
      </p:sp>
    </p:spTree>
  </p:cSld>
  <p:transition spd="med"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28600" y="152280"/>
            <a:ext cx="853452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one more example for method overri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namespace override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virtual void Display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ystem.Console.WriteLine("BC::Display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DC : B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override void Display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ystem.Console.WriteLine("DC::Display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TC : D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FA0-2D68-4EEC-B87D-44FF102C0AFE}" type="slidenum">
              <a:t>61</a:t>
            </a:fld>
          </a:p>
        </p:txBody>
      </p:sp>
    </p:spTree>
  </p:cSld>
  <p:transition spd="med"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0880" y="304920"/>
            <a:ext cx="845820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C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 = new TC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.Display(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4038480"/>
            <a:ext cx="853416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::Displa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229-C338-4C15-8238-CF8834DBBE2A}" type="slidenum">
              <a:t>62</a:t>
            </a:fld>
          </a:p>
        </p:txBody>
      </p:sp>
    </p:spTree>
  </p:cSld>
  <p:transition spd="med"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52280" y="152280"/>
            <a:ext cx="868680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Program to demonstrate virtual &amp; override keywor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namespace virtual_over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lass d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ring dID,dnam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dep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ID="JN-MCA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name="MCA"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void rea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the dept ID is "+d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the dept name is "+dname);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FD93-AFD9-488D-8777-7C15412013E0}" type="slidenum">
              <a:t>63</a:t>
            </a:fld>
          </a:p>
        </p:txBody>
      </p:sp>
    </p:spTree>
  </p:cSld>
  <p:transition spd="med"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2280" y="152280"/>
            <a:ext cx="8686800" cy="558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lass director:d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ring addr,nam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director(String ad,String 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ddr=a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name=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void rea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ase.read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the director name is " + name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the director address is " + addr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B3B-F19D-46DF-BFD9-22AD4FF0C8E6}" type="slidenum">
              <a:t>64</a:t>
            </a:fld>
          </a:p>
        </p:txBody>
      </p:sp>
    </p:spTree>
  </p:cSld>
  <p:transition spd="med"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2280" y="152280"/>
            <a:ext cx="8686800" cy="5946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lass lecturer : d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ring laddr, lnam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lecturer(String add, String 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addr = ad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name = 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void rea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ase.read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the lecturer name is " + l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the lecturer address is " + laddr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9F6-F475-4F96-B5F3-B88C76783539}" type="slidenum">
              <a:t>65</a:t>
            </a:fld>
          </a:p>
        </p:txBody>
      </p:sp>
    </p:spTree>
  </p:cSld>
  <p:transition spd="med"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52280" y="152280"/>
            <a:ext cx="8686800" cy="4848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ass virtual_overr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irector d = new director("Shimoga", "Dr. XYZ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.read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ecturer l = new lecturer("Bangalore", "Mr. ABC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l.read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66D-9ADD-43DA-A7B4-6F3EC28A25B3}" type="slidenum">
              <a:t>66</a:t>
            </a:fld>
          </a:p>
        </p:txBody>
      </p:sp>
    </p:spTree>
  </p:cSld>
  <p:transition spd="med"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8600" y="8100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ng (and Understanding) Abstract 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762120"/>
            <a:ext cx="87631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ly, the Employee base class has been designed to supp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rotected member variables for its sub-class, as well as supp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wo virtual methods (GiveBonus() and DisplayStats()) that may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verridden by a given descend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the problem is we can directly create instances of the Employe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ase class, &amp; we don’t want anyone to create its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ar better design for our example is t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ve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ility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irectly create a new Employee object in cod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enforce this in program by using the abstract  keywo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429000"/>
            <a:ext cx="830556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X = new Employe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9B98-D5E3-44C1-9D3C-0EB71EF77D44}" type="slidenum">
              <a:t>67</a:t>
            </a:fld>
          </a:p>
        </p:txBody>
      </p:sp>
    </p:spTree>
  </p:cSld>
  <p:transition spd="med"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228600"/>
            <a:ext cx="8839440" cy="1130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Update the Employee class as abstract to prevent direct instanti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stra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..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523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is, if you now attempt to create an instance of the Employe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, you are issued a compiletime err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8600" y="2362320"/>
            <a:ext cx="8686800" cy="82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Error! Can't create an instance of an abstract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ee X = new Employe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5085-E9CD-4C4F-99BD-FFAC3DAA8583}" type="slidenum">
              <a:t>68</a:t>
            </a:fld>
          </a:p>
        </p:txBody>
      </p:sp>
    </p:spTree>
  </p:cSld>
  <p:transition spd="med"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8100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forcing Polymorphic Activity: Abstract 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76212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ilar to abstract classes, we can also create abstract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a class has been defined as an abstract base class, it ma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define any numbe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bstract memb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stract methods can be used whenever we wish to defin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 tha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es no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ly any implement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724E-3663-43BD-BF8C-62714D5B1291}" type="slidenum">
              <a:t>69</a:t>
            </a:fld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9216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-Reference in C# Using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77796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h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 is used when we wish to explicitly reference the fiel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members of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urrent 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676520"/>
            <a:ext cx="868680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Explicitly use "this" to resolve name-clas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string fullName, int empID, float currP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ssign the incoming params to my state 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fullName = full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empID = empI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currPay = currPa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4343400"/>
            <a:ext cx="8839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articular C# keyword is used when you wish to explicit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 the fields and members of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urrent 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ason we made use of this in our custom constructor, was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void clashes between the parameter names and names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nal state variab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843-1F61-4627-AB22-69E9583D5B78}" type="slidenum">
              <a:t>7</a:t>
            </a:fld>
          </a:p>
        </p:txBody>
      </p:sp>
    </p:spTree>
  </p:cSld>
  <p:transition spd="med"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76320"/>
            <a:ext cx="8610480" cy="666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abstract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Sha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rotected string petNam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Shape(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// constru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etName = "Noname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Shape(String s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// constru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etName = 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void Draw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Shape.Draw(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string Pet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// proper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petNam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etName = 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537-E156-415A-B230-8CB497D4B552}" type="slidenum">
              <a:t>70</a:t>
            </a:fld>
          </a:p>
        </p:txBody>
      </p:sp>
    </p:spTree>
  </p:cSld>
  <p:transition spd="med"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52280" y="152280"/>
            <a:ext cx="8763120" cy="5447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ircle : Sha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ircle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ircle(String name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: base(nam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Hexagon : Sha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Hexag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Hexagon(String name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: base(nam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override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void Draw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Drawing {0} the Hexagon", petNam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070-2397-409F-BE24-6198B83C1BEB}" type="slidenum">
              <a:t>71</a:t>
            </a:fld>
          </a:p>
        </p:txBody>
      </p:sp>
    </p:spTree>
  </p:cSld>
  <p:transition spd="med"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28600" y="152280"/>
            <a:ext cx="8763120" cy="4179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xagon hex = new Hexagon("Beth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x.Draw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ircle cir = new Circle("cindy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ir.Draw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hape h = new Circle("hhhhh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h.Draw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pe s = new Shape();  // not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4495680"/>
            <a:ext cx="8686800" cy="1572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raw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h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the Hexa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.Draw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.Draw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E741-000E-4542-8D9D-8FE2DEC76A86}" type="slidenum">
              <a:t>72</a:t>
            </a:fld>
          </a:p>
        </p:txBody>
      </p:sp>
    </p:spTree>
  </p:cSld>
  <p:transition spd="med"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28600" y="76320"/>
            <a:ext cx="8610480" cy="666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namespace abstract_class_metho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//demonstrating abstract class and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abstract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ass Sha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rotected string petNam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Shape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etName = "Noname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Shape(String 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etName = 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void Draw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string Pet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petNam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etName = 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F6D-F719-4420-9209-0E62679DECB3}" type="slidenum">
              <a:t>73</a:t>
            </a:fld>
          </a:p>
        </p:txBody>
      </p:sp>
    </p:spTree>
  </p:cSld>
  <p:transition spd="med"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76320"/>
            <a:ext cx="8610480" cy="6712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class Circle : Shap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Circle(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Circle(String nam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: base(nam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void Draw(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Drawing {0} the circle", petNam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class Hexagon : Shap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Hexagon(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Hexagon(String nam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: base(nam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void Draw(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Drawing {0} the Hexagon", petNam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3D1E-EA7F-4577-9730-9BEAD437A212}" type="slidenum">
              <a:t>74</a:t>
            </a:fld>
          </a:p>
        </p:txBody>
      </p:sp>
    </p:spTree>
  </p:cSld>
  <p:transition spd="med">
    <p:wipe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28600" y="289080"/>
            <a:ext cx="861048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xagon hex = new Hexagon("Beth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x.Draw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ircle cir = new Circle("cindy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ir.Draw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hape h = new Circle("hhhhh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.Draw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Shape s = new Shape();  // not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AA6-1355-43A6-8818-41F2C2433B31}" type="slidenum">
              <a:t>75</a:t>
            </a:fld>
          </a:p>
        </p:txBody>
      </p:sp>
    </p:spTree>
  </p:cSld>
  <p:transition spd="med">
    <p:wipe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8600" y="304920"/>
            <a:ext cx="8763120" cy="375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An array of various sh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hape[] s = {new Hexagon(), new Hexagon("mick"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xagon("linda")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 (int i = 0; i &lt; s.Length; i+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[i].Draw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4343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declare a class as abstract, it indicates that class cannot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stantiated.  Only its derived classes (which are not mark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bstract) can be instanti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4D95-63CD-431F-A30F-BC7395585090}" type="slidenum">
              <a:t>76</a:t>
            </a:fld>
          </a:p>
        </p:txBody>
      </p:sp>
    </p:spTree>
  </p:cSld>
  <p:transition spd="med"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2860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sioning Class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762120"/>
            <a:ext cx="86868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provides a facility that is the logical opposite of metho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overriding: method hi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mally speaking, if a derived class redeclares an identic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ber inherited from a base class, the derived class has hidden (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hadow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the parent’s memb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that we have added new class named Oval to the curr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hape hierarch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7162560" cy="282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B8F4-F1A2-4895-9599-8C1C9EE581F6}" type="slidenum">
              <a:t>77</a:t>
            </a:fld>
          </a:p>
        </p:txBody>
      </p:sp>
    </p:spTree>
  </p:cSld>
  <p:transition spd="med">
    <p:wipe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28600" y="152280"/>
            <a:ext cx="8686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val also defines a method named Draw(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ish to prevent the Oval class from inheriting any previou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rawing logic, &amp; this technique is called versioning a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ccomplished using the “new” keyw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2286000"/>
            <a:ext cx="861048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is class extends Circle, but hides the inherited Draw() meth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Oval : Cir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val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.PetName = "Joe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Hide any Draw() implementation above m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Draw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Oval specific drawing algorith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7A9A-F257-4DCF-9602-D6213DAC16DF}" type="slidenum">
              <a:t>78</a:t>
            </a:fld>
          </a:p>
        </p:txBody>
      </p:sp>
    </p:spTree>
  </p:cSld>
  <p:transition spd="med">
    <p:wipe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152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sage of  “new” keyword gurantees that if an object user mak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 instance of the Oval class and calls Draw(), the  deriv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mplementation is cal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1447920"/>
            <a:ext cx="8763120" cy="1008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e Draw() defined by Oval will be call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al o = new Oval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.Draw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2590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possible to trigger the base class  implementation of a hidd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 using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xplicit c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3505320"/>
            <a:ext cx="8763120" cy="1008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e Draw() defined by Circle will be calle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al o = new Oval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(Circle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Draw();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ast o to base cla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6030-4316-4DBF-B0AF-266AE91050A5}" type="slidenum">
              <a:t>79</a:t>
            </a:fld>
          </a:p>
        </p:txBody>
      </p:sp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228600"/>
            <a:ext cx="868680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When there is no name clash, "this" is assum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string name, int id, float p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Name = 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ID = i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Pay = pa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2819520"/>
            <a:ext cx="868680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string name, int id, float p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fullName = 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empID = i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.currPay = pa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EE4B-7485-4384-BAF1-697D66C52C3C}" type="slidenum">
              <a:t>8</a:t>
            </a:fld>
          </a:p>
        </p:txBody>
      </p:sp>
    </p:spTree>
  </p:cSld>
  <p:transition spd="med"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860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ting Between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83808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ider the employee hierarchy. The topmost member i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hierarchy is System.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fore, everything “is-a” object. Given this fact, it is legal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store an instance of any type within a object vari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52280" y="2666880"/>
            <a:ext cx="8839440" cy="2410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 Manager "is-a" System.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frank = new Manager("Frank Zappa", 9, 40000, "111-11-1111", 5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 Manager "is-a" Employee to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Employee moonUnit = new Manager("MoonUnit Zappa", 2, 20000, "101-11-1321", 1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 PTSalesPerson "is-a" SalesPer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Person jill = new PTSalesPerson("Jill", 834, 100000, "111-12-1119", 9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7873-BDA2-47B2-A3F5-842B593751D9}" type="slidenum">
              <a:t>80</a:t>
            </a:fld>
          </a:p>
        </p:txBody>
      </p:sp>
    </p:spTree>
  </p:cSld>
  <p:transition spd="med">
    <p:wipe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8600" y="76320"/>
            <a:ext cx="8763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law of casting between class types is that when two class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re related by an “is-a” relationship, it is always safe to stor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rived type within a base class referen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called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mplicit ca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8600" y="1752480"/>
            <a:ext cx="868680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TheMach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void FireThisPerson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ployee 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Remove from databas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Get key and pencil sharpener from fired employe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40384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effectively pass any descendent from the Employee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nto above method directly, given the “is-a” relationshi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5029200"/>
            <a:ext cx="8763120" cy="1236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Streamline the sta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Machine.FireThisPerson(moonUnit); // "moonUnit" was declared as an Employe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eMachine.FireThisPerson(jill); // "jill" was declared as a SalesPerso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71A-9BE8-4241-A143-59885B1C85FC}" type="slidenum">
              <a:t>81</a:t>
            </a:fld>
          </a:p>
        </p:txBody>
      </p:sp>
    </p:spTree>
  </p:cSld>
  <p:transition spd="med">
    <p:wipe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52280" y="2286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ant to fire Frank Zappa (currently stored in a gener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Object reference) &amp; pass the frank object directly in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Machine.FireThisPerson()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1523880"/>
            <a:ext cx="8763120" cy="1313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 Manager "is-a" object, but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frank = new Manager("Frank Zappa", 9, 40000, "111-11-1111", 5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Machine.FireThisPerson(frank)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Error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280" y="3048120"/>
            <a:ext cx="8763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issued a compiler error. The reason is we canno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utomatically treat a System.Object as a derived Employee directl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 it is a base ty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atisfy the compiler by performing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xplicit ca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4952880"/>
            <a:ext cx="8839440" cy="1008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Cast from the generic System.Object into a Manag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 mgr = (Manager)fran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Frank's options: {0}", mgr.NumbOpt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656-5A79-42DE-A544-66EB17DAC611}" type="slidenum">
              <a:t>82</a:t>
            </a:fld>
          </a:p>
        </p:txBody>
      </p:sp>
    </p:spTree>
  </p:cSld>
  <p:transition spd="med">
    <p:wipe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90440" y="1144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termining the “Type of” Employ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549360"/>
            <a:ext cx="883944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# language provides three ways to determine whether a given base clas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reference is actually referring to a derived type: explicit casting (previousl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examined), the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i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keyword, and the </a:t>
            </a: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a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keywo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is keyword returns a Boolean that signals whether the base class  reference i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compatible with a given derived ty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2438280"/>
            <a:ext cx="8686800" cy="420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 class TheMachin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 static void FireThisPerson(Employee 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f(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 is SalesPerson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sole.WriteLine("Lost a sales person named {0}", e.GetFullName()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sole.WriteLine("{0} made {1} sale(s)..."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.GetFullName(), ((SalesPerson)e).NumbSales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f(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e is Manager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sole.WriteLine("Lost a suit named {0}", e.GetFullName()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sole.WriteLine("{0} had {1} stock options...",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.GetFullName(), ((Manager)e).NumbOpts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FA3-CBC9-4E02-9FBE-EEC7966D22EE}" type="slidenum">
              <a:t>83</a:t>
            </a:fld>
          </a:p>
        </p:txBody>
      </p:sp>
    </p:spTree>
  </p:cSld>
  <p:transition spd="med">
    <p:wipe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304920" y="3049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an alternative, you could make use of the as keyword to obtain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 to the more derived type (if the types are incompatible,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 is set to null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1600200"/>
            <a:ext cx="8686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esPerson p = e as SalesPerso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p != nu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# of sales: {0}", p.NumbSales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D9C-BB33-45E6-BA82-1A67AF76D839}" type="slidenum">
              <a:t>84</a:t>
            </a:fld>
          </a:p>
        </p:txBody>
      </p:sp>
    </p:spTree>
  </p:cSld>
  <p:transition spd="med">
    <p:wipe dir="d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860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erical 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280" y="8380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ddition to casting between objects, the numerical convers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llow more or less the same ru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1676520"/>
            <a:ext cx="876312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x = 300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b =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x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Loss of information here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28600" y="2666880"/>
            <a:ext cx="876312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b = 3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x = b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No loss of information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F0E-F862-4F80-8C05-2FD8F76C64A2}" type="slidenum">
              <a:t>85</a:t>
            </a:fld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warding Constructor Calls Using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70164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other use of the this keyword is to force one constructor to c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other in order to avoid redundant member initialization log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523880"/>
            <a:ext cx="8686800" cy="393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Employ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Employee(string fullName, int empID, float currPa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.fullName = full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.empID = empI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.currPay = currP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f the user calls this ctor, forward to the 3-arg vers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ublic Employee(string fullNam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this(fullName, IDGenerator.GetNewEmpID(), 0.0F) {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55627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ver, to fully construct a new Employee, we need to ensure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 have a proper ID and rate of p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F862-A423-496A-B7DE-9C3781BD5DE1}" type="slidenum">
              <a:t>9</a:t>
            </a:fld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6:30:03Z</dcterms:created>
  <dc:creator>Hemanth</dc:creator>
  <dc:description/>
  <dc:language>en-US</dc:language>
  <cp:lastModifiedBy>Hemanth</cp:lastModifiedBy>
  <dcterms:modified xsi:type="dcterms:W3CDTF">2012-09-23T18:39:06Z</dcterms:modified>
  <cp:revision>489</cp:revision>
  <dc:subject/>
  <dc:title>Object-Oriented Programming with C#</dc:title>
</cp:coreProperties>
</file>